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EDBF4-2A81-4C60-A117-4762BE6D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8DF85-8FF1-493D-9E62-DAD9215D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FD16B-3240-4384-BD44-CB780203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30756-2453-42C4-A575-80E34EC8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75DF3-B37D-418B-8294-A4729017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12DAA-5DBA-4585-B4F6-0FD46EC4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78A2A-8A5F-4120-8CEC-1948C3E3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A9C64-6487-4D94-A44A-D64ED485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14CA3-2E49-4F1F-8128-B3F11AE8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33478-1BF1-432A-866E-6135E729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E0675-CF8F-451B-869E-7C39977D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72291-4BA3-4691-A7C6-2F99940A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7BD2B-174B-4A10-A4BB-1FECF9DF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18635-7788-49B6-BE98-A32F95DE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25788-10C6-4616-A6DA-44029FD8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6BCBF-5526-4B55-8C8A-37E3E251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B0549-FC92-4493-A545-CF2CFEEC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836C1-4F4A-45D6-AD6A-2CDFCB38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2B122-2C62-48D3-9E9F-DF02D745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97688-5C09-4D4D-8C41-DCE92F5D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AE467-952A-4186-A3BF-D5DAD365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AF5-901E-4F31-BC86-39515918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E4D-CACF-445F-903A-AD1F273E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FD4-74BE-45DA-B540-E81F33B9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108-C00B-4253-8225-8B220A8F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A86-9187-44A1-B2D9-0C157FD0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229-139A-4E16-819E-2ACAB680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AA6-F975-42D4-B087-DBF34AC8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891-62AB-4DCC-8E6B-9515710E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C17-853C-4993-9B63-D23B7C75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6C7-CE03-4601-89BA-3D21EBB5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956-6149-4C04-9DAB-6ECB84B3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28B-EC48-4FC8-A5FC-DDD8A627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7008-45F8-4C20-BE55-4C203FCD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EBFA-29AC-4D30-96A3-E0609968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4464-C0A3-4549-A47D-D7E255DC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8128-05B9-4340-8F54-51725D5F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DDAC-9E1C-4934-9ED0-3574D7A8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1DD7-16B3-404B-B0C8-04C2D4F2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1574-F355-4E65-BA75-5C07E378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E1AE-A0D9-4046-8FAE-7B6E11E9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9949-8F62-40DA-BAB7-7DF416A6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E522-A260-4B6F-BC02-8A9DD415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3E5C-9B70-4A09-B5AB-3C239963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462F-82D2-4D9F-BFD1-7534AADB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6EFF7-399A-4DF8-9CE8-0149ED43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AA325-418B-4702-AABB-F2C22D67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3D54B-0724-4B82-B65A-ACE02D47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07FCD-F807-44BD-8DF0-615CCDC7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0143D-95A1-46C3-B4BE-62EC454B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58576-6C5D-48A1-B2E1-4F9A17F4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7F5C-34C5-4A53-BFB8-1CFCA65F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2F90-2580-4666-8802-248BAA06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41B92-38B0-4301-BB1B-9FBABA99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2DB41-3BAD-4961-AD37-6FACD3CE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5607-DDF9-4B24-896F-91DE512E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F03A8-18C0-40DF-8D16-6ADC0917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D663-1D6D-469C-B348-330C616B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39BD-D47C-40C3-8760-DD765EE3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490EE-8727-48D6-B267-FF03FEC2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1D7BA-45CA-46CF-AF46-C2A0277F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18899-E123-4070-B572-D620B71B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92DE4-9755-4284-9E1C-51180757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A6832-C2BC-49EF-8C2C-E8B97EFE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8F7B2-B9DF-4D84-8CF7-ABBECBD0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164D-78D6-4DF3-9818-19190E08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22AC-49AD-4427-A27C-0261B9AA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CE2DC-A422-48EB-921B-861FEAF8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B8F85-0FA4-4CEF-B866-2FB1F9AE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155B6-F89C-4B24-887A-CCB64797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C0165-5E49-48E4-8B53-C237E8FC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12057-1AE0-4C1A-92D8-6A3B8AF8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859F7-6AF8-4CBA-9626-359CAF58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8D999-4B34-401F-8BEE-3C993389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085DD-3F4A-4994-ABC6-9D249036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06241-D813-47CA-BFD1-EBB5C795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38BC-DE67-48F7-8834-5CEFCB6A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41AC7-6451-4D20-9708-BB2AFADE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C7D15-B557-4117-A858-18F9A77B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AEC79-2692-4D7B-91F5-EE5A7CC9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FB5B9-1F4D-4618-A5DD-58F138E6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34730-D51A-4876-ABA5-9AE97575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C8393-9F68-4A46-8DBB-0204A850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8B530-EB50-4984-B3DC-24251207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736B1-810B-44CC-9766-13CBF0AA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36C7B-BDAD-4DCB-841C-D8E739C6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17C9C-68E0-4F8D-9962-C9922183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3A32A-DADF-4F0E-8C11-59BC6175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F827C-5EF1-4286-B04D-E8D38CB0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A86F2-0480-4A9A-BB4A-BCF3C307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273CE-543E-4B91-B237-6DBABFE4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A1A3C-F76D-48CF-B16C-65D4740C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97AF8-C253-4830-B3AB-443EAC7C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5EDF1-6D82-430C-98FF-BD6A4DE5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1FC80-AFF3-4E78-848A-49B15528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08D06-74B6-4328-9AB2-67A70F09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353E3-9DA9-41F0-BF56-1AB31030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D4A15-3FCA-410D-B1B5-D6103D45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EE9BE-4475-44DB-9EF5-14E5C233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C6836-53A0-46DB-9D86-E6752A3F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7CB16-63AC-4B12-AFCE-1E55EB7B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D2E5A-6F43-4B37-AF40-B68D0CDA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E10EE-64D4-44FE-8D1C-31C1AFCE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DEE61-8BBD-4A9D-A432-E8161FFF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D3941-26DC-4EDE-85CC-3F6DB3F2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F36DD-ED70-4B51-933B-135DC372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9E859-53A3-4475-A7ED-B5598D09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89C5B-213B-4B5B-9344-97AA094C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9047-64FA-4655-A81B-2842712E3781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37AC-A791-484A-B53D-BDDEADECEB67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8BDA-6C4F-4AED-8220-0965F93B9530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3132-A8A9-473B-96C0-98F7D0A413D9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B33A-F813-43CC-A4D5-0B84BAAF8483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DEAA-7359-43C1-A7F0-B661CBE6908F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2858-220E-4ADC-A640-E3562C35D34B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3F5B-01DF-4C04-A0C8-11D3C0C19178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7" descr="mainslidecover.jpg"/>
          <p:cNvPicPr/>
          <p:nvPr/>
        </p:nvPicPr>
        <p:blipFill>
          <a:blip r:embed="rId2"/>
          <a:srcRect l="0" t="0" r="5730" b="0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0DF3-C84B-4A45-8197-805C2B6AA77F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9" descr="\\RORY-PC\Rory Projects\RB1405 Eden Branding Guidelines\Links\Kerry Stamper 1.jpg"/>
          <p:cNvPicPr/>
          <p:nvPr/>
        </p:nvPicPr>
        <p:blipFill>
          <a:blip r:embed="rId1"/>
          <a:stretch/>
        </p:blipFill>
        <p:spPr>
          <a:xfrm>
            <a:off x="0" y="1828800"/>
            <a:ext cx="2130480" cy="3200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\\RORY-PC\Rory Projects\RB1405 Eden Branding Guidelines\Links\PenrithSportsCentre1.jpg"/>
          <p:cNvPicPr/>
          <p:nvPr/>
        </p:nvPicPr>
        <p:blipFill>
          <a:blip r:embed="rId2"/>
          <a:stretch/>
        </p:blipFill>
        <p:spPr>
          <a:xfrm>
            <a:off x="2133720" y="1828800"/>
            <a:ext cx="5379840" cy="32259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1" descr="C:\Users\Rory\Desktop\Localheroesphoto.jpg"/>
          <p:cNvPicPr/>
          <p:nvPr/>
        </p:nvPicPr>
        <p:blipFill>
          <a:blip r:embed="rId3"/>
          <a:stretch/>
        </p:blipFill>
        <p:spPr>
          <a:xfrm>
            <a:off x="6445080" y="1905120"/>
            <a:ext cx="2698920" cy="3225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\\RORY-PC\Rory Projects\RB1405 Eden Branding Guidelines\Links\Eden White Wave thin 2.eps"/>
          <p:cNvPicPr/>
          <p:nvPr/>
        </p:nvPicPr>
        <p:blipFill>
          <a:blip r:embed="rId4"/>
          <a:stretch/>
        </p:blipFill>
        <p:spPr>
          <a:xfrm>
            <a:off x="0" y="4343400"/>
            <a:ext cx="9169560" cy="843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5" descr="\\RORY-PC\Rory Projects\RB1405 Eden Branding Guidelines\Links\Eden White Wave thin.eps"/>
          <p:cNvPicPr/>
          <p:nvPr/>
        </p:nvPicPr>
        <p:blipFill>
          <a:blip r:embed="rId5"/>
          <a:stretch/>
        </p:blipFill>
        <p:spPr>
          <a:xfrm>
            <a:off x="0" y="1447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2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cabce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Alston 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       Appleby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 Kirkby Stephen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   Penr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000160" y="6357960"/>
            <a:ext cx="2357640" cy="500040"/>
          </a:xfrm>
          <a:prstGeom prst="rect">
            <a:avLst/>
          </a:prstGeom>
          <a:solidFill>
            <a:srgbClr val="4cab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5643720" y="54291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cabce"/>
                </a:solidFill>
                <a:latin typeface="Arial"/>
              </a:rPr>
              <a:t>www.eden.gov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Young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676520" y="1857240"/>
            <a:ext cx="74674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Key target group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Future voters…. and Councillors and Offic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Key service users (non-user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ight to be hea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Consul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676520" y="1928880"/>
            <a:ext cx="74674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raditional methods either excluded or ignor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Need to engage via their ‘media of choice’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 involvement in shaping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upport for new media proje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What If We Don’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1676520" y="1857240"/>
            <a:ext cx="74674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ore disengagement from public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oorer services for young people and ……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 in problems with young peop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nd we could end up with……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2262240" y="1285920"/>
            <a:ext cx="54878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785880" y="2143080"/>
            <a:ext cx="7900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cabce"/>
                </a:solidFill>
                <a:latin typeface="Arial"/>
              </a:rPr>
              <a:t>Kevin Douglas</a:t>
            </a:r>
            <a:br>
              <a:rPr sz="3200"/>
            </a:br>
            <a:r>
              <a:rPr b="1" lang="en-GB" sz="3200" spc="-1" strike="noStrike">
                <a:solidFill>
                  <a:srgbClr val="4cabce"/>
                </a:solidFill>
                <a:latin typeface="Arial"/>
              </a:rPr>
              <a:t>Chief 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cabce"/>
                </a:solidFill>
                <a:latin typeface="Arial"/>
              </a:rPr>
              <a:t>Eden District Cou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642960" y="1000080"/>
            <a:ext cx="7900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cabce"/>
                </a:solidFill>
                <a:latin typeface="Arial"/>
              </a:rPr>
              <a:t>Why Engag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3643200" y="1000080"/>
            <a:ext cx="48578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Engage 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1676520" y="2143080"/>
            <a:ext cx="74674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720" indent="-2160720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Vision: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Best Serve the People of Ed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60720" indent="-2160720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60720" indent="-2160720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rporate Priority: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Quality Council – ensures services are accessible, meet needs of customers and are seeking improv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60720" indent="-2160720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60720" indent="-2160720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Key Action: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Focus on customers and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600200" y="145728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26977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Baseline (200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1676520" y="1714680"/>
            <a:ext cx="7467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verall  Satisfactio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atisfaction with Council Service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Well Informed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Value for Money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r" pos="547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But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Survey S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1676520" y="2143080"/>
            <a:ext cx="74674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ample is taken on 18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8-24% retur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5-65+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Engage 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1676520" y="1714680"/>
            <a:ext cx="746748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uncil wide project to respond t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Broaden base of involvement – not just usual asp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dentify needs of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custom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mprove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1600200" y="1000080"/>
            <a:ext cx="790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cabce"/>
                </a:solidFill>
                <a:latin typeface="Arial"/>
              </a:rPr>
              <a:t>Engage Eden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1676520" y="1785960"/>
            <a:ext cx="74674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Four stran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ocal Strategic Partnership – Partn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verview and Scrutiny – Members/Publ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nsultation – Publ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ocality – Geographical are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ink to County Counc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6:52:55Z</dcterms:created>
  <dc:creator>barryc</dc:creator>
  <dc:description/>
  <dc:language>en-US</dc:language>
  <cp:lastModifiedBy>Administrator</cp:lastModifiedBy>
  <dcterms:modified xsi:type="dcterms:W3CDTF">2009-06-26T13:03:19Z</dcterms:modified>
  <cp:revision>110</cp:revision>
  <dc:subject/>
  <dc:title>Slide 1</dc:title>
</cp:coreProperties>
</file>